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1386800" cy="302799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F61AD6-165A-4070-8E0B-F7567CBCD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02B6A6-B08C-44FD-94DC-D9D9B09117D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19247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069200" y="16258320"/>
            <a:ext cx="19247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920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093212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76920" y="708516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84640" y="708516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69200" y="1625832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7576920" y="1625832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4084640" y="1625832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069200" y="7085160"/>
            <a:ext cx="19247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19247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069200" y="1208160"/>
            <a:ext cx="19247760" cy="23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06920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93212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9200" y="16258320"/>
            <a:ext cx="19247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  <Words>48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29:05Z</dcterms:modified>
  <cp:revision>6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